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CCBC-A9DB-4100-A63A-4C7C46F9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EA30-0A3E-478F-810C-BE55DF53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EE6A-549E-457F-9F66-33949AF5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77A2-6DDE-42F3-9DA9-FF077658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D920-E7C6-415B-A244-B3117FE9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1191-5D7A-4CC2-8FF9-AD1089C7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0C00-0CA2-4E94-8610-B387261E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9B21-CE68-4253-BD3D-721EADE0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B9C8-D0A0-449A-9C26-3ECDBBD6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B01C-2EE5-4FEC-BA24-23B9F34F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2883-1A58-4740-8B78-DC5985B5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2BE-6C73-405F-AC90-E49B7AFF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7247-3154-48A6-B090-D6C4E7D6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88AC-D83E-4AA3-A506-5FD4DB48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D29D-4663-48C6-8FFE-9E1BC3C8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AC9A-2CA1-405B-87AF-4E8C2D10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2EEF-F36F-4EEA-978C-F16036F2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F6F-6502-4ECC-ACB4-B8B88903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613F-20AF-4FCE-86ED-DD180636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26C-FCC3-4AEC-941F-310567B7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85D-543F-4E5E-84CB-77847C1F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F31-8D09-4DD2-B8A5-8D960C5D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0EC5-EE40-4699-9820-4AB8FD59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700F-9F11-46F9-AF58-C5223F56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3" name="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804960" y="117360"/>
            <a:ext cx="66600" cy="522360"/>
            <a:chOff x="804960" y="117360"/>
            <a:chExt cx="66600" cy="522360"/>
          </a:xfrm>
        </p:grpSpPr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0277-ED01-44B8-98D0-3A0ED278DC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80920" y="117360"/>
              <a:ext cx="66960" cy="2124360"/>
              <a:chOff x="880920" y="117360"/>
              <a:chExt cx="66960" cy="2124360"/>
            </a:xfrm>
          </p:grpSpPr>
          <p:sp>
            <p:nvSpPr>
              <p:cNvPr id="69" name=""/>
              <p:cNvSpPr/>
              <p:nvPr/>
            </p:nvSpPr>
            <p:spPr>
              <a:xfrm>
                <a:off x="880920" y="117360"/>
                <a:ext cx="66960" cy="669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80920" y="347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80920" y="574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80920" y="1033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80920" y="1260360"/>
                <a:ext cx="66960" cy="669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0920" y="1490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80920" y="1717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920" y="1947960"/>
                <a:ext cx="66960" cy="633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920" y="2176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80920" y="804960"/>
                <a:ext cx="66960" cy="633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5ED1-77EC-480F-A5D8-FDF2CC2195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ing Literal Equations and Formula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9067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literal equations and formulas for a specified var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y these skills to solve practical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bcbcb"/>
                </a:solidFill>
                <a:latin typeface="Times New Roman"/>
              </a:rPr>
              <a:t>Definitions: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literal equatio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an equation that contains two or more variable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ample:   x = yz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formul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s an equation that states a rule for the relationship between certain quantiti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ample:  A = l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)  Solve the equation -5x + y = -56 for 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how all of your work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, subtract y from both sides of the equ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xt, divide by -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2880" y="2057040"/>
            <a:ext cx="3810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)  -5x + y = -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- y    -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-5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-56 -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5      -5   -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2057400"/>
            <a:ext cx="15228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2819520"/>
            <a:ext cx="30456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30481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91520" y="304812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181480" y="4267080"/>
          <a:ext cx="243864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267080"/>
                    <a:ext cx="24386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other example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) Solve a(y + 1) = b for 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olve for 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divide by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subtrac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63832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(y + 1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       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+ 1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- 1       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2209680"/>
            <a:ext cx="685800" cy="60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ere’s a tricky one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4876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) Solve 3ax - b = d - 4cx for 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, we must get all terms with x together on one s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 4cx to both s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 b to both s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xt, use the distributive property to factor x out of the two terms on the lef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, x is being multiplied by (3a + 4c).  To undo this, divide both sides by (3a + 4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051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ax - b = d - 4c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+4cx           +4c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ax - b + 4cx =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+b             +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ax + 4cx = d +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(3a + 4c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 + b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a + 4c)    (3a + 4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d +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a + 4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1600200"/>
            <a:ext cx="685800" cy="762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2590920"/>
            <a:ext cx="75960" cy="8380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486040" y="4114800"/>
            <a:ext cx="304920" cy="762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095520" y="4114800"/>
            <a:ext cx="304920" cy="762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y a few on your own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) Solve P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1.2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7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) Solve P = 2l + 2w for 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) Solve 4x - 3m = 2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01:39:04Z</dcterms:created>
  <dc:creator>HCPS</dc:creator>
  <dc:description/>
  <dc:language>en-US</dc:language>
  <cp:lastModifiedBy>Parkland High School</cp:lastModifiedBy>
  <cp:lastPrinted>2010-10-05T17:03:51Z</cp:lastPrinted>
  <dcterms:modified xsi:type="dcterms:W3CDTF">2010-10-07T13:15:42Z</dcterms:modified>
  <cp:revision>12</cp:revision>
  <dc:subject/>
  <dc:title>3-3 Solving Multi-Step Equations</dc:title>
</cp:coreProperties>
</file>